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0B3A-4D90-47D1-B027-7EE4DA54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261D-8E57-4879-A178-2388199D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F4BF-F208-41B7-A8D3-A5A82FA5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FB5F-5D7D-4591-8399-E389D747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68F-40F1-48E5-B337-AC5F0F53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1A5-C5AE-4290-91F9-41323C1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A22A-5B04-42E9-9A6B-E66FC5DF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2682-6E27-40E3-A863-A69D3A5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C76-BB16-4652-90ED-05538647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1A4B-C64C-4400-8DC4-99A839B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D2A6-8CC4-43DA-823F-7477E5F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8479-1D8B-4724-8E34-7FD97C88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C181-358B-43E0-BC40-9AB50C6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DF9B-9182-4912-B0CE-B567586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A1F-165E-40DA-B15A-36CFAB9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1212-6623-4891-A34F-D4FB9B45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3073-D65A-4C17-A9AE-E0B37845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A81C-744C-4007-BB5B-D4C40A19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C458-97A5-4407-96F8-3E9A1E3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AD50-1187-4A15-A0A0-A7095A9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C475-CE22-4A1C-8716-E89D86E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7C16-9541-45B0-9C51-D1B1FCA5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3CF7-4EFB-4746-BFF2-4B44306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99EB-2836-41A1-A6D9-1D417E1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232-BD9E-4518-A504-FBEE68467E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E9C6-C3C3-4706-9E4D-A67324C32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laims and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se help facilitate private, voluntary labeling eff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aim regulations: ensure truthfulness of a label (e.g., “heart health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ndards: help standardize the meaning of a label or claim (e.g.,  “natural” or “grass f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cess certification and verification programs (e.g., Certified Angus Bee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des and Standards (e.g., #2 yellow cor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 ba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ans send information to consumers about the quality available for s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Japanese ban on U.S. beef following BSE s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EU ban on growth hormones in beef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Provision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ducational campa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 on tobac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chelle Obama’s “Let’s Move” campa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od pyramid and food pl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ation disse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ice repor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Qs on biotechnology, irradiation, cloning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ffective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7696440" cy="4445280"/>
        </p:xfrm>
        <a:graphic>
          <a:graphicData uri="http://schemas.openxmlformats.org/drawingml/2006/table">
            <a:tbl>
              <a:tblPr/>
              <a:tblGrid>
                <a:gridCol w="3170520"/>
                <a:gridCol w="1131840"/>
                <a:gridCol w="1131840"/>
                <a:gridCol w="1130400"/>
                <a:gridCol w="1131840"/>
              </a:tblGrid>
              <a:tr h="2444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fficiency or Performance Criteria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ocative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nmarke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acilitate more voluntary labeling programs (e.g., process certification programs, standards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05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acilitate more mandatory labeling programs (e.g., COOL labeling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Ban “low quality” products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rsue more education or information provision programs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98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ursue a more </a:t>
                      </a:r>
                      <a:r>
                        <a:rPr b="1" i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aissez faire </a:t>
                      </a: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pproach relative to the status quo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/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ow do information policies change consumers’ beliefs about the safety/quality of existing product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there cases where consumers would prefer not to know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OI if consumers never find out the tru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information if consumers have limited attentions or face “too many” choic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government information campaig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of Information Reg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ly more on consumer access to modern technology (e.g., iPhones, bar codes, etc.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tter cost-benefit analy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work asking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f information could be beneficially pres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hould information policies promote social goals or ensure “truth in advertising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nsumer Information and Label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yson L. Lu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wer Americans than ever before are connected to agriculture or know where their food comes fr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 this change good or 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does the change imply for food information polic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Food Information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ymmetric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kerlof’s lemon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es the presence of asymmetric information cause a market failur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uncertain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consumers can’t tell whether a product is “low” or “high” quality, their WTP will not be as high as it might be with better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ck of Credible Signa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umers may not trust firms to tell the truth about quality claims – especially for credence g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n reputation help solve the probl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’ “right to know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upport favored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 farmers, local farme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aternali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dge consumers to make “better” cho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eviate External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ing consumers of 3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party consequences of consumption might alter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lue of Information (VO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 VOI is the most consumers are willing to pay to be better inform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actically, this entails seeing how consumers change behavior after receiv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chnically, VOI is determined by calculating how many $ we’d have to give someone to make the same choices they did before they received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datory Lab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ducers or retailers are required to label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.g., mandatory nutritional labeling, mandatory 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gredient-targeted mandatory labeling polices have been less successful in U.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mandatory “rBST” or “GMO” labeling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7:15Z</dcterms:modified>
  <cp:revision>12</cp:revision>
  <dc:subject/>
  <dc:title>U.S. Policies Affecting Food and Agricultural Marketing</dc:title>
</cp:coreProperties>
</file>